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37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9563-1225-4762-9BCC-AC0857312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90B9-04E1-42C8-9148-AF15CEB2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B60E-AAD5-47F0-8D6C-619CF02A6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1BB7-6659-4AA1-B81F-4940445D0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9CA7-3454-499F-967D-BA8119005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044D-8E0A-490E-9FCE-03FDDC33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61D0-5F74-4240-BD4A-580697E6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1298-E536-4935-BAAD-C03B467B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6C2B-B860-4399-AED5-66447A81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6BE5-E7E7-46E8-906E-5BEE4EAD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3FF7-91D6-4D2E-893A-598B8D9B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7131-2D1F-4322-95FA-5E6743A9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EFC1-3EBD-4D25-A2C3-1A0B7948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8BED-5906-4340-A5D9-3A2173CE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D284-0383-4623-B28C-3D58979C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256F-4D30-4579-BD86-10933E092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F3F7-AD98-49B0-BDD3-5F98EBE00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7102-EEE1-475A-8C22-C7F02EA3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2D76-1133-48FE-956B-0FDF29FA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4B5A-DF4D-4D17-AC57-A78722BE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83EB-7612-4DF5-BB24-931EA15D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5CF3-6879-478A-8D23-502D2DE1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3B7D-F703-4105-8A16-B262D8C6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9ACB-F8AA-4FC8-B5DD-6F78C301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656C-E8FB-4075-BCC9-3DBBC66933F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1E7F-0ADF-41D1-82EE-7B311589DDA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images.google.com/imgres?imgurl=http://img2.timeinc.net/toh/i/g/0107_islands/kitchen-islands-10.jpg&amp;imgrefurl=http://www.thisoldhouse.com/toh/photos/0,,1581515_1284283,00.html&amp;usg=__lY4uFZLsTWB7DNV0ZXrOtL_W4SY=&amp;h=450&amp;w=450&amp;sz=35&amp;hl=en&amp;start=46&amp;tbnid=RiiMvgR28Hs_mM:&amp;tbnh=127&amp;tbnw=127&amp;prev=/images%3Fq%3Disland%2Bkitchens%26gbv%3D2%26ndsp%3D20%26hl%3Den%26safe%3Dactive%26sa%3DN%26start%3D40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images.google.com/imgres?imgurl=http://goodideas.front.lv/wp-content/uploads/2007/08/kitchen_island_design_sample.jpg&amp;imgrefurl=http://www.kitchencustomdesign.com/kitchen-design-pictures/&amp;usg=__ZX3WC7Ac2CEmqPFZbBnWq-Rlps0=&amp;h=566&amp;w=800&amp;sz=72&amp;hl=en&amp;start=57&amp;tbnid=1MjE-DKpdBJXiM:&amp;tbnh=101&amp;tbnw=143&amp;prev=/images%3Fq%3Disland%2Bkitchens%26gbv%3D2%26ndsp%3D20%26hl%3Den%26safe%3Dactive%26sa%3DN%26start%3D40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olutionpeoplephilly.com/images/peninsulakitchen1.gif&amp;imgrefurl=http://solutionpeoplephilly.com/Kitchen_Design_Planning.html&amp;usg=__hkBzpn0YGEn2XU0RI76muOVDL8s=&amp;h=356&amp;w=300&amp;sz=12&amp;hl=en&amp;start=1&amp;tbnid=79uqJdpsMeyvfM:&amp;tbnh=121&amp;tbnw=102&amp;prev=/images%3Fq%3Dkitchens%2Bwith%2Bpeninsula%26gbv%3D2%26hl%3Den%26safe%3Dactive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images.google.com/imgres?imgurl=http://www.thekitchendesigner.org/storage/jl-kitchen-tour.jpg&amp;imgrefurl=http://www.thekitchendesigner.org/journal/2007/3/22/kitchens-heard-around-the-blogs.html&amp;usg=__WvVtFosasEENSQSt69yirj5wSKY=&amp;h=378&amp;w=550&amp;sz=113&amp;hl=en&amp;start=36&amp;tbnid=880jfXgGzZRkIM:&amp;tbnh=91&amp;tbnw=133&amp;prev=/images%3Fq%3Dkitchens%2Bwith%2Bpeninsula%26gbv%3D2%26ndsp%3D20%26hl%3Den%26safe%3Dactive%26sa%3DN%26start%3D20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2.bp.blogspot.com/_wFWqWIH-WFU/R5kZbcoFslI/AAAAAAAADkA/E-rZB7UYXBw/s320/kitchen-sinks-01.jpg&amp;imgrefurl=http://housingpanic.blogspot.com/2008_01_01_archive.html&amp;usg=__8C8eFbkWoyHT_1aehelNnX3p9pg=&amp;h=300&amp;w=300&amp;sz=20&amp;hl=en&amp;start=2&amp;tbnid=KiAF9nMb4eq8JM:&amp;tbnh=116&amp;tbnw=116&amp;prev=/images%3Fq%3Dkitchen%2Bsinks%26gbv%3D2%26hl%3Den%26safe%3Dactive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images.google.com/imgres?imgurl=http://www.frankeksd.com/grfx/products/mainproduct/MHK-110-28.jpg&amp;imgrefurl=http://www.frankekitchensinks.com/&amp;usg=__NZLj50xLgAw8XcZYPD1Uji0LwPc=&amp;h=299&amp;w=299&amp;sz=27&amp;hl=en&amp;start=14&amp;tbnid=1QZvajk543VhIM:&amp;tbnh=116&amp;tbnw=116&amp;prev=/images%3Fq%3Dkitchen%2Bsinks%26gbv%3D2%26hl%3Den%26safe%3Dactive" TargetMode="External"/><Relationship Id="rId4" Type="http://schemas.openxmlformats.org/officeDocument/2006/relationships/image" Target="../media/image25.jpeg"/><Relationship Id="rId5" Type="http://schemas.openxmlformats.org/officeDocument/2006/relationships/hyperlink" Target="http://images.google.com/imgres?imgurl=http://images.meredith.com/bhg/images/2007/06/ss_Sterlingundercounter.jpg&amp;imgrefurl=http://www.bhg.com/home-improvement/kitchen/product-guide/kitchen-sinks/&amp;usg=__c6BYtNtomyOryVmp0rd5jvDcQt4=&amp;h=400&amp;w=300&amp;sz=36&amp;hl=en&amp;start=18&amp;tbnid=Er_4vfwXDcEa1M:&amp;tbnh=124&amp;tbnw=93&amp;prev=/images%3Fq%3Dkitchen%2Bsinks%26gbv%3D2%26hl%3Den%26safe%3Dactive" TargetMode="External"/><Relationship Id="rId6" Type="http://schemas.openxmlformats.org/officeDocument/2006/relationships/image" Target="../media/image26.jpeg"/><Relationship Id="rId7" Type="http://schemas.openxmlformats.org/officeDocument/2006/relationships/hyperlink" Target="http://images.google.com/imgres?imgurl=http://heating-engineers-manchester.co.uk/images/kitchen%2520sinks.jpg&amp;imgrefurl=http://heating-engineers-manchester.co.uk/kitchen_sink.aspx&amp;usg=__FUWvIG_EueTtg--Finjny_f6mxw=&amp;h=400&amp;w=400&amp;sz=11&amp;hl=en&amp;start=26&amp;tbnid=ASICL6h758JNtM:&amp;tbnh=124&amp;tbnw=124&amp;prev=/images%3Fq%3Dkitchen%2Bsinks%26gbv%3D2%26ndsp%3D20%26hl%3Den%26safe%3Dactive%26sa%3DN%26start%3D20" TargetMode="External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hopping.com/xPO-Whirlpool_Whirlpool_GC3SHEXNS_23_Cu_Ft_Free_Standing_Counter_Refrigerator_w_Electronic_Ice_Water_Dispens" TargetMode="External"/><Relationship Id="rId2" Type="http://schemas.openxmlformats.org/officeDocument/2006/relationships/image" Target="../media/image29.jpeg"/><Relationship Id="rId3" Type="http://schemas.openxmlformats.org/officeDocument/2006/relationships/hyperlink" Target="http://www.shopping.com/xPO-LG_LG_25_Cu_Ft_French_Door_Refrigerator_LRFC25750" TargetMode="External"/><Relationship Id="rId4" Type="http://schemas.openxmlformats.org/officeDocument/2006/relationships/image" Target="../media/image30.jpeg"/><Relationship Id="rId5" Type="http://schemas.openxmlformats.org/officeDocument/2006/relationships/hyperlink" Target="http://www.shopping.com/xPO-Amana_15_0_cu_ft_Top_Freezer_Refrigerator" TargetMode="External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lowes.com/lowes/lkn?action=productDetail&amp;productId=180052-2251-FCCG201FW&amp;lpage=none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lowes.com/lowes/lkn?action=productDetail&amp;productId=240505-666-EV181NZRQ&amp;lpage=none" TargetMode="External"/><Relationship Id="rId2" Type="http://schemas.openxmlformats.org/officeDocument/2006/relationships/image" Target="../media/image33.jpeg"/><Relationship Id="rId3" Type="http://schemas.openxmlformats.org/officeDocument/2006/relationships/hyperlink" Target="http://www.lowes.com/lowes/lkn?action=productDetail&amp;productId=240506-666-EV250NXRQ&amp;lpage=none" TargetMode="External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lowes.com/lowes/lkn?action=productDetail&amp;productId=225572-83-JB710SKSS&amp;lpage=none" TargetMode="External"/><Relationship Id="rId2" Type="http://schemas.openxmlformats.org/officeDocument/2006/relationships/image" Target="../media/image35.jpeg"/><Relationship Id="rId3" Type="http://schemas.openxmlformats.org/officeDocument/2006/relationships/hyperlink" Target="http://www.lowes.com/lowes/lkn?action=productDetail&amp;productId=245104-83-JGB908SELSS&amp;lpage=none" TargetMode="External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lowes.com/" TargetMode="External"/><Relationship Id="rId2" Type="http://schemas.openxmlformats.org/officeDocument/2006/relationships/hyperlink" Target="http://www.homedepot.com/" TargetMode="External"/><Relationship Id="rId3" Type="http://schemas.openxmlformats.org/officeDocument/2006/relationships/hyperlink" Target="http://www.whirlpool.com/" TargetMode="External"/><Relationship Id="rId4" Type="http://schemas.openxmlformats.org/officeDocument/2006/relationships/hyperlink" Target="http://www.kitchens.com/" TargetMode="External"/><Relationship Id="rId5" Type="http://schemas.openxmlformats.org/officeDocument/2006/relationships/hyperlink" Target="http://www.nkba.com/" TargetMode="External"/><Relationship Id="rId6" Type="http://schemas.openxmlformats.org/officeDocument/2006/relationships/hyperlink" Target="http://www.sears.com/" TargetMode="External"/><Relationship Id="rId7" Type="http://schemas.openxmlformats.org/officeDocument/2006/relationships/hyperlink" Target="http://www.geappliances.com/" TargetMode="External"/><Relationship Id="rId8" Type="http://schemas.openxmlformats.org/officeDocument/2006/relationships/hyperlink" Target="http://www.energystar.gov/" TargetMode="External"/><Relationship Id="rId9" Type="http://schemas.openxmlformats.org/officeDocument/2006/relationships/hyperlink" Target="http://www.hgtv.com/" TargetMode="External"/><Relationship Id="rId10" Type="http://schemas.openxmlformats.org/officeDocument/2006/relationships/hyperlink" Target="http://www.bhg.com/" TargetMode="Externa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omic Sans MS"/>
              </a:rPr>
              <a:t>7.01 Apply the Elements of a Functional Kitche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Comic Sans MS"/>
              </a:rPr>
              <a:t>Types of Kitchen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Island/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 freestanding storage and countertop unit in a kitch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May contain a second sink or a cook t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724280" y="2362320"/>
            <a:ext cx="2952720" cy="19904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47920" y="4876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81480" y="4800600"/>
            <a:ext cx="2362320" cy="16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Peninsul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 kitchen countertop that is attached at one end to a wal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ually cabinets beneath countert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 serve as an open divider between the kitchen &amp; a dining room or family roo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2438280"/>
            <a:ext cx="1806840" cy="2143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95280" y="5105520"/>
            <a:ext cx="210528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kitchen peninsula - design-60_t"/>
          <p:cNvPicPr/>
          <p:nvPr/>
        </p:nvPicPr>
        <p:blipFill>
          <a:blip r:embed="rId1"/>
          <a:stretch/>
        </p:blipFill>
        <p:spPr>
          <a:xfrm>
            <a:off x="7010280" y="304920"/>
            <a:ext cx="1828800" cy="14634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Ultra-Stylish, Ultra-Functional Kitchen Islands"/>
          <p:cNvPicPr/>
          <p:nvPr/>
        </p:nvPicPr>
        <p:blipFill>
          <a:blip r:embed="rId2"/>
          <a:stretch/>
        </p:blipFill>
        <p:spPr>
          <a:xfrm>
            <a:off x="5715000" y="2438280"/>
            <a:ext cx="2857680" cy="20574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914400" y="4879800"/>
            <a:ext cx="2514600" cy="19782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Galley Style Kitchen Remodeling"/>
          <p:cNvPicPr/>
          <p:nvPr/>
        </p:nvPicPr>
        <p:blipFill>
          <a:blip r:embed="rId4"/>
          <a:stretch/>
        </p:blipFill>
        <p:spPr>
          <a:xfrm>
            <a:off x="6172200" y="502920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U Shaped Kitchen Design Renovation"/>
          <p:cNvPicPr/>
          <p:nvPr/>
        </p:nvPicPr>
        <p:blipFill>
          <a:blip r:embed="rId5"/>
          <a:stretch/>
        </p:blipFill>
        <p:spPr>
          <a:xfrm>
            <a:off x="914400" y="228600"/>
            <a:ext cx="2828880" cy="2124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Small Kitchen Design"/>
          <p:cNvPicPr/>
          <p:nvPr/>
        </p:nvPicPr>
        <p:blipFill>
          <a:blip r:embed="rId6"/>
          <a:stretch/>
        </p:blipFill>
        <p:spPr>
          <a:xfrm>
            <a:off x="3581280" y="4495680"/>
            <a:ext cx="1955880" cy="2048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One-walled kitchen"/>
          <p:cNvPicPr/>
          <p:nvPr/>
        </p:nvPicPr>
        <p:blipFill>
          <a:blip r:embed="rId7"/>
          <a:stretch/>
        </p:blipFill>
        <p:spPr>
          <a:xfrm>
            <a:off x="1447920" y="2438280"/>
            <a:ext cx="1760400" cy="18478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moretuzzo-kitchen-class-x-1.jpg"/>
          <p:cNvPicPr/>
          <p:nvPr/>
        </p:nvPicPr>
        <p:blipFill>
          <a:blip r:embed="rId8"/>
          <a:stretch/>
        </p:blipFill>
        <p:spPr>
          <a:xfrm>
            <a:off x="3962520" y="304920"/>
            <a:ext cx="2390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dern Kitch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0" name="" descr="moretuzzo-kitchen-class-x-1.jpg"/>
          <p:cNvPicPr/>
          <p:nvPr/>
        </p:nvPicPr>
        <p:blipFill>
          <a:blip r:embed="rId1"/>
          <a:stretch/>
        </p:blipFill>
        <p:spPr>
          <a:xfrm>
            <a:off x="2514600" y="2422440"/>
            <a:ext cx="541008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ev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19320" y="4038480"/>
            <a:ext cx="3019320" cy="2448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257800" y="4038480"/>
            <a:ext cx="3581280" cy="25574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4876920" y="990720"/>
            <a:ext cx="315252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itchen Sinks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yles and colors to suit every sty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be round, square, oval: deep or shallo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have single, double, triple bow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be made of porcelain, stainless steel, acrylic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28195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19720" y="29718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10280" y="2743200"/>
            <a:ext cx="1343160" cy="17906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143000" y="44956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9"/>
          <a:stretch/>
        </p:blipFill>
        <p:spPr>
          <a:xfrm>
            <a:off x="5562720" y="4657680"/>
            <a:ext cx="15238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frigerato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ze depends on number of people in fami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 people = 16 cubic feet. Add 1.5 cubic feet for each additional pers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be broken into different compartments separate for fruits, veggies, mea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Refrigerato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One doo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does not have a freezer, only a colder compartment. Will not keep food froz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Compac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suitable for dorms, offices, hotels rooms. Not suitable for frozen foods or ice. Can be rented or purchased cheapl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Two doo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most common type found in home. Has a separate freezer compartment that remains at about 0. Above, below, bedside doo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frigerator Special Features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ce mak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ce cube &amp; water dispenser in do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lf defrosting freez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vable glass shelv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ep door compart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uilt in touch screen &amp; bar code scanner for inventory and so go online to order items at local sto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uilt in TV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Work Centers for kitchen activities: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omic Sans MS"/>
              </a:rPr>
              <a:t>Food Preparation &amp; Stora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80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Counter for preparing food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80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Refrigerator and cabinets for storing utensils and food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omic Sans MS"/>
              </a:rPr>
              <a:t>Cooking &amp; Serv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80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tovetop and oven for cooking and baking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80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Cabinets and counter for tools and utensils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omic Sans MS"/>
              </a:rPr>
              <a:t>Clean U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80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ink and dishwasher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80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Cabinets for storing dishes, tools, and utensils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oday kitchens may also have a planning work center with a computer, bookshelves and desk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d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bov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elow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0" name="" descr="Whirlpool GC3SHEXN Side by Side Refrigerato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3276720"/>
            <a:ext cx="2209680" cy="2590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LG LRFC25750 Refrigerator French Doo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53080" y="2971800"/>
            <a:ext cx="2095560" cy="25909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Amana ATB1504AR Top Freezer Refrigerator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038480" y="3200400"/>
            <a:ext cx="17272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recommended size of the refrigerator depends on the number of people in the household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eople use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16 cu.f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d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1.5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u.ft for each additional perso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: Family of 4…..16 cu.ft. + 1.5 + 1.5= 19 cu.f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reez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tyle: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ider the product and its location in your home. Will an upright or chest freezer work better for you? A 14 cu. ft. upright freezer annually consumes less than half the energy needed to light a 100 watt bulb for the same period of tim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est type freezer: large, bulky packages are easier to store, use LESS energy because less cold air escapes when door is open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advantages: Take up more floor space and food must be lifted ou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4876920"/>
            <a:ext cx="20574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pright type freezers: food is easier to see and remove, takes up a small amount of floor space. Uses more energ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3962520"/>
            <a:ext cx="1981080" cy="19047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38680" y="3657600"/>
            <a:ext cx="190512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ectric Rang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Conventional Coi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electricity flows through wires encased in coi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Glass ceramic top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smooth top, coils are hidden, easy to clean, scratches easi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Halogen cartridge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uses electricity but provides instant heat just like gas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duction Cook to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s a magnetic field to generate heat in the bottom of cooking pots and pans which must also be magneti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at from the cookware then cooks the foo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 heat is created on the range top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eanup is easy because spills do not burn and coils are beneath a glass ceramic to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as Rang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at is produced from the combustion process between gas and oxyge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s is controlled with a valve with electronic igniters (required by law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Conventional burner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do not fit snugly into cook-top so spills are difficult to cle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ealed burner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No opening exists between burner and cook-top, easy cleanu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yles of Rang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Freestand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Most common and comes in different sizes, colors, and has many different options. Oven is below the cook-top, may stand alone OR between cabine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419112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4114800"/>
            <a:ext cx="28191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lide-in range : either slides into or rest on base cabinets. Usually chrome strips are used to cover the side edges and provide the built in lo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uilt-in range: provides cooking surface separate from the oven. Installed on a countertop, usually an island. Oven is installed in a wall, can have microwave installed above/below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arming Drawer: used to keep hot food warm until serving time. Used to warm plates and serving piec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ork Triang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To make a kitchen efficient as possible you need to place the focus points of major work centers at the corner of imaginary triangle.  Called a </a:t>
            </a:r>
            <a:r>
              <a:rPr b="1" lang="en-US" sz="3200" spc="-1" strike="noStrike" u="sng">
                <a:solidFill>
                  <a:srgbClr val="003366"/>
                </a:solidFill>
                <a:uFillTx/>
                <a:latin typeface="Comic Sans MS"/>
              </a:rPr>
              <a:t>work triangle</a:t>
            </a: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.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The total walking distance between refrigerator, sink &amp; range should not exceed </a:t>
            </a:r>
            <a:r>
              <a:rPr b="1" lang="en-US" sz="3200" spc="-1" strike="noStrike" u="sng">
                <a:solidFill>
                  <a:srgbClr val="003366"/>
                </a:solidFill>
                <a:uFillTx/>
                <a:latin typeface="Comic Sans MS"/>
              </a:rPr>
              <a:t>21 feet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vection oven: bake foods in a stream of heated air, browns and cooks food faster at a lower tempera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wave oven: cooks with high-frequency energy waves. Can cook, defrost, &amp; reheat foods. Come in many sizes and wattages, can be countertop or built-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od Waste Dispos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stalled below the sink to catch and grind most types of foods. Connected to a sewer line or septic tan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LD water is needed to help grind the scraps and flush them through the dra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shwash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hwasher: saves time, energy &amp; water. Uses hotter water &amp; stronger detergents, dries dishes faster, can be built-in or portable, many have special cycles for pots, fine china, food disposer, quiet oper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ash compacto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ress household trash to a fraction of its original volum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ash is placed into heavy duty plastic bags, trash compactors can handle almost any kind of nonfood trash, including bottles, cans &amp; plastic contain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T intended for food scraps, flammable materials and aerosol ca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755800" y="304920"/>
            <a:ext cx="47991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our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ousing and Interiors, pages 496-51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ww.lowes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www.homedepot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www.whirlpool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www.kitchens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www.nkba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www.sears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66"/>
                </a:solidFill>
                <a:uFillTx/>
                <a:latin typeface="Arial"/>
                <a:hlinkClick r:id="rId7"/>
              </a:rPr>
              <a:t>www.geappliances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66"/>
                </a:solidFill>
                <a:uFillTx/>
                <a:latin typeface="Arial"/>
                <a:hlinkClick r:id="rId8"/>
              </a:rPr>
              <a:t>www.energystar.gov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66"/>
                </a:solidFill>
                <a:uFillTx/>
                <a:latin typeface="Arial"/>
                <a:hlinkClick r:id="rId9"/>
              </a:rPr>
              <a:t>www.hgtv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66"/>
                </a:solidFill>
                <a:uFillTx/>
                <a:latin typeface="Arial"/>
                <a:hlinkClick r:id="rId10"/>
              </a:rPr>
              <a:t>www.bhg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pyright ©2007, ABCD, All rights reserved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Comic Sans MS"/>
              </a:rPr>
              <a:t>Kitchen Work Centers – Work Triang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2333520" y="2419200"/>
            <a:ext cx="4702320" cy="36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ideal work triangle follows the normal flow of food preparation.  You move food from the refrigerator/freezer &amp; take it to the sink for cleaning.  From the sink food goes to range for cooking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fter cooking &amp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eating leftover food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s returned to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refrigerato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867280" y="3429000"/>
            <a:ext cx="227808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One Wall Kitch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range, sink, refrigerator and cabinets are arranged along one wall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Saves space – usually in apart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Very limited storage&amp; countert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756320" y="2361960"/>
            <a:ext cx="3774960" cy="3724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One Wall Kitchen Floor Plan."/>
          <p:cNvPicPr/>
          <p:nvPr/>
        </p:nvPicPr>
        <p:blipFill>
          <a:blip r:embed="rId2"/>
          <a:stretch/>
        </p:blipFill>
        <p:spPr>
          <a:xfrm>
            <a:off x="4648320" y="2919240"/>
            <a:ext cx="434340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Corridor Kitch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ppliance and cabinets are arranged along 2 walls, with an aisle between them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Usually has a compact efficient work triang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f both ends of corridor are open can have interruption from people walking throug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" descr="Galley Kitchen Floor Plan."/>
          <p:cNvPicPr/>
          <p:nvPr/>
        </p:nvPicPr>
        <p:blipFill>
          <a:blip r:embed="rId1"/>
          <a:stretch/>
        </p:blipFill>
        <p:spPr>
          <a:xfrm>
            <a:off x="533520" y="2895480"/>
            <a:ext cx="419076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L-Shaped Kitch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ppliances and cabinets are arranged along 2 adjoining walls.  Allows an open area that may be used for dining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More than 1 person can work in kitch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Corner storage might not be fully accessi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L-Shape Kitchen Floor Plan."/>
          <p:cNvPicPr/>
          <p:nvPr/>
        </p:nvPicPr>
        <p:blipFill>
          <a:blip r:embed="rId1"/>
          <a:stretch/>
        </p:blipFill>
        <p:spPr>
          <a:xfrm>
            <a:off x="838080" y="2330280"/>
            <a:ext cx="3733920" cy="36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U-Shaped Kitch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Contains appliances and cabinets that are arranged along 3 adjoining wall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most desirable because most U-shaped have more continuous counter and cabinet space than other layout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" descr="U-Shape Kitchen Floor Plan."/>
          <p:cNvPicPr/>
          <p:nvPr/>
        </p:nvPicPr>
        <p:blipFill>
          <a:blip r:embed="rId1"/>
          <a:stretch/>
        </p:blipFill>
        <p:spPr>
          <a:xfrm>
            <a:off x="4724280" y="2514600"/>
            <a:ext cx="388620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7T01:46:49Z</dcterms:created>
  <dc:creator> </dc:creator>
  <dc:description/>
  <dc:language>en-US</dc:language>
  <cp:lastModifiedBy>s.brooks</cp:lastModifiedBy>
  <dcterms:modified xsi:type="dcterms:W3CDTF">2009-11-06T17:20:30Z</dcterms:modified>
  <cp:revision>25</cp:revision>
  <dc:subject/>
  <dc:title>Obj 7.01 Apply the Elements of a Functional Kitchen</dc:title>
</cp:coreProperties>
</file>